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9.gif" ContentType="image/gif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86ED42-1300-41B0-9449-6917C692C05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C1F1E9-851A-46D4-BCC8-AC90AB8E24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7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48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495360" y="1433520"/>
            <a:ext cx="81532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　商的变化规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6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57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9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0" name="椭圆 8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1" name="椭圆 8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椭圆 82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64" name="椭圆 82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椭圆 85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67" name="椭圆 85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椭圆 88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0" name="椭圆 88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椭圆 96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73" name="椭圆 96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椭圆 97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76" name="椭圆 97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TextBox 4"/>
          <p:cNvSpPr/>
          <p:nvPr/>
        </p:nvSpPr>
        <p:spPr>
          <a:xfrm>
            <a:off x="5302080" y="503280"/>
            <a:ext cx="3384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二    三位数除以两位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233360" y="2136600"/>
            <a:ext cx="655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商的变化规律灵活运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运用商的变化规律解决实际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81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1"/>
          <p:cNvGrpSpPr/>
          <p:nvPr/>
        </p:nvGrpSpPr>
        <p:grpSpPr>
          <a:xfrm>
            <a:off x="595440" y="1052640"/>
            <a:ext cx="2809800" cy="668160"/>
            <a:chOff x="595440" y="1052640"/>
            <a:chExt cx="2809800" cy="668160"/>
          </a:xfrm>
        </p:grpSpPr>
        <p:sp>
          <p:nvSpPr>
            <p:cNvPr id="85" name="圆角矩形 11"/>
            <p:cNvSpPr/>
            <p:nvPr/>
          </p:nvSpPr>
          <p:spPr>
            <a:xfrm>
              <a:off x="1479600" y="11653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d4ad8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文本框 13"/>
            <p:cNvSpPr/>
            <p:nvPr/>
          </p:nvSpPr>
          <p:spPr>
            <a:xfrm>
              <a:off x="1479600" y="115236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1052640"/>
              <a:ext cx="1087200" cy="66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组合 5"/>
          <p:cNvGrpSpPr/>
          <p:nvPr/>
        </p:nvGrpSpPr>
        <p:grpSpPr>
          <a:xfrm>
            <a:off x="1071720" y="1893960"/>
            <a:ext cx="7027560" cy="3343680"/>
            <a:chOff x="1071720" y="1893960"/>
            <a:chExt cx="7027560" cy="3343680"/>
          </a:xfrm>
        </p:grpSpPr>
        <p:sp>
          <p:nvSpPr>
            <p:cNvPr id="89" name="TextBox 36"/>
            <p:cNvSpPr/>
            <p:nvPr/>
          </p:nvSpPr>
          <p:spPr>
            <a:xfrm>
              <a:off x="1071720" y="1893960"/>
              <a:ext cx="702756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0720" indent="-450720">
                <a:lnSpc>
                  <a:spcPct val="150000"/>
                </a:lnSpc>
                <a:tabLst>
                  <a:tab algn="l" pos="0"/>
                  <a:tab algn="l" pos="901800"/>
                  <a:tab algn="l" pos="1352520"/>
                  <a:tab algn="l" pos="1803240"/>
                  <a:tab algn="l" pos="2254320"/>
                  <a:tab algn="l" pos="2705040"/>
                  <a:tab algn="l" pos="3156120"/>
                  <a:tab algn="l" pos="3606840"/>
                  <a:tab algn="l" pos="4057560"/>
                  <a:tab algn="l" pos="4508640"/>
                  <a:tab algn="l" pos="4959360"/>
                  <a:tab algn="l" pos="5410080"/>
                  <a:tab algn="l" pos="5861160"/>
                  <a:tab algn="l" pos="6311880"/>
                  <a:tab algn="l" pos="6762600"/>
                  <a:tab algn="l" pos="7213680"/>
                  <a:tab algn="l" pos="7664400"/>
                  <a:tab algn="l" pos="8115480"/>
                  <a:tab algn="l" pos="8566200"/>
                  <a:tab algn="l" pos="9016920"/>
                  <a:tab algn="l" pos="9468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．在      里填上适当的运算符号，在       里填上适当的数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0720" indent="-450720">
                <a:lnSpc>
                  <a:spcPct val="150000"/>
                </a:lnSpc>
                <a:tabLst>
                  <a:tab algn="l" pos="0"/>
                  <a:tab algn="l" pos="901800"/>
                  <a:tab algn="l" pos="1352520"/>
                  <a:tab algn="l" pos="1803240"/>
                  <a:tab algn="l" pos="2254320"/>
                  <a:tab algn="l" pos="2705040"/>
                  <a:tab algn="l" pos="3156120"/>
                  <a:tab algn="l" pos="3606840"/>
                  <a:tab algn="l" pos="4057560"/>
                  <a:tab algn="l" pos="4508640"/>
                  <a:tab algn="l" pos="4959360"/>
                  <a:tab algn="l" pos="5410080"/>
                  <a:tab algn="l" pos="5861160"/>
                  <a:tab algn="l" pos="6311880"/>
                  <a:tab algn="l" pos="6762600"/>
                  <a:tab algn="l" pos="7213680"/>
                  <a:tab algn="l" pos="7664400"/>
                  <a:tab algn="l" pos="8115480"/>
                  <a:tab algn="l" pos="8566200"/>
                  <a:tab algn="l" pos="9016920"/>
                  <a:tab algn="l" pos="9468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1)90÷18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0720" indent="-450720">
                <a:lnSpc>
                  <a:spcPct val="150000"/>
                </a:lnSpc>
                <a:tabLst>
                  <a:tab algn="l" pos="0"/>
                  <a:tab algn="l" pos="901800"/>
                  <a:tab algn="l" pos="1352520"/>
                  <a:tab algn="l" pos="1803240"/>
                  <a:tab algn="l" pos="2254320"/>
                  <a:tab algn="l" pos="2705040"/>
                  <a:tab algn="l" pos="3156120"/>
                  <a:tab algn="l" pos="3606840"/>
                  <a:tab algn="l" pos="4057560"/>
                  <a:tab algn="l" pos="4508640"/>
                  <a:tab algn="l" pos="4959360"/>
                  <a:tab algn="l" pos="5410080"/>
                  <a:tab algn="l" pos="5861160"/>
                  <a:tab algn="l" pos="6311880"/>
                  <a:tab algn="l" pos="6762600"/>
                  <a:tab algn="l" pos="7213680"/>
                  <a:tab algn="l" pos="7664400"/>
                  <a:tab algn="l" pos="8115480"/>
                  <a:tab algn="l" pos="8566200"/>
                  <a:tab algn="l" pos="9016920"/>
                  <a:tab algn="l" pos="9468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90×5)÷18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0720" indent="-450720">
                <a:lnSpc>
                  <a:spcPct val="150000"/>
                </a:lnSpc>
                <a:tabLst>
                  <a:tab algn="l" pos="0"/>
                  <a:tab algn="l" pos="901800"/>
                  <a:tab algn="l" pos="1352520"/>
                  <a:tab algn="l" pos="1803240"/>
                  <a:tab algn="l" pos="2254320"/>
                  <a:tab algn="l" pos="2705040"/>
                  <a:tab algn="l" pos="3156120"/>
                  <a:tab algn="l" pos="3606840"/>
                  <a:tab algn="l" pos="4057560"/>
                  <a:tab algn="l" pos="4508640"/>
                  <a:tab algn="l" pos="4959360"/>
                  <a:tab algn="l" pos="5410080"/>
                  <a:tab algn="l" pos="5861160"/>
                  <a:tab algn="l" pos="6311880"/>
                  <a:tab algn="l" pos="6762600"/>
                  <a:tab algn="l" pos="7213680"/>
                  <a:tab algn="l" pos="7664400"/>
                  <a:tab algn="l" pos="8115480"/>
                  <a:tab algn="l" pos="8566200"/>
                  <a:tab algn="l" pos="9016920"/>
                  <a:tab algn="l" pos="9468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②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90÷9)÷(18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0720" indent="-450720">
                <a:lnSpc>
                  <a:spcPct val="150000"/>
                </a:lnSpc>
                <a:tabLst>
                  <a:tab algn="l" pos="0"/>
                  <a:tab algn="l" pos="901800"/>
                  <a:tab algn="l" pos="1352520"/>
                  <a:tab algn="l" pos="1803240"/>
                  <a:tab algn="l" pos="2254320"/>
                  <a:tab algn="l" pos="2705040"/>
                  <a:tab algn="l" pos="3156120"/>
                  <a:tab algn="l" pos="3606840"/>
                  <a:tab algn="l" pos="4057560"/>
                  <a:tab algn="l" pos="4508640"/>
                  <a:tab algn="l" pos="4959360"/>
                  <a:tab algn="l" pos="5410080"/>
                  <a:tab algn="l" pos="5861160"/>
                  <a:tab algn="l" pos="6311880"/>
                  <a:tab algn="l" pos="6762600"/>
                  <a:tab algn="l" pos="7213680"/>
                  <a:tab algn="l" pos="7664400"/>
                  <a:tab algn="l" pos="8115480"/>
                  <a:tab algn="l" pos="8566200"/>
                  <a:tab algn="l" pos="9016920"/>
                  <a:tab algn="l" pos="9468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90÷(18÷3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椭圆 1"/>
            <p:cNvSpPr/>
            <p:nvPr/>
          </p:nvSpPr>
          <p:spPr>
            <a:xfrm>
              <a:off x="1969920" y="1998720"/>
              <a:ext cx="447480" cy="458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矩形 3"/>
            <p:cNvSpPr/>
            <p:nvPr/>
          </p:nvSpPr>
          <p:spPr>
            <a:xfrm>
              <a:off x="6159600" y="2017800"/>
              <a:ext cx="415800" cy="404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2" name="组合 4"/>
            <p:cNvGrpSpPr/>
            <p:nvPr/>
          </p:nvGrpSpPr>
          <p:grpSpPr>
            <a:xfrm>
              <a:off x="4070160" y="3643560"/>
              <a:ext cx="969840" cy="459360"/>
              <a:chOff x="4070160" y="3643560"/>
              <a:chExt cx="969840" cy="459360"/>
            </a:xfrm>
          </p:grpSpPr>
          <p:sp>
            <p:nvSpPr>
              <p:cNvPr id="93" name="椭圆 15"/>
              <p:cNvSpPr/>
              <p:nvPr/>
            </p:nvSpPr>
            <p:spPr>
              <a:xfrm>
                <a:off x="4070160" y="3643560"/>
                <a:ext cx="449280" cy="4593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矩形 17"/>
              <p:cNvSpPr/>
              <p:nvPr/>
            </p:nvSpPr>
            <p:spPr>
              <a:xfrm>
                <a:off x="4624200" y="3654360"/>
                <a:ext cx="415800" cy="4039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5" name="组合 19"/>
            <p:cNvGrpSpPr/>
            <p:nvPr/>
          </p:nvGrpSpPr>
          <p:grpSpPr>
            <a:xfrm>
              <a:off x="3679920" y="4225680"/>
              <a:ext cx="946080" cy="459360"/>
              <a:chOff x="3679920" y="4225680"/>
              <a:chExt cx="946080" cy="459360"/>
            </a:xfrm>
          </p:grpSpPr>
          <p:sp>
            <p:nvSpPr>
              <p:cNvPr id="96" name="椭圆 20"/>
              <p:cNvSpPr/>
              <p:nvPr/>
            </p:nvSpPr>
            <p:spPr>
              <a:xfrm>
                <a:off x="3679920" y="4225680"/>
                <a:ext cx="449280" cy="4593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矩形 21"/>
              <p:cNvSpPr/>
              <p:nvPr/>
            </p:nvSpPr>
            <p:spPr>
              <a:xfrm>
                <a:off x="4210200" y="4260600"/>
                <a:ext cx="415800" cy="4039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8" name="组合 22"/>
            <p:cNvGrpSpPr/>
            <p:nvPr/>
          </p:nvGrpSpPr>
          <p:grpSpPr>
            <a:xfrm>
              <a:off x="4057200" y="4778280"/>
              <a:ext cx="946080" cy="459360"/>
              <a:chOff x="4057200" y="4778280"/>
              <a:chExt cx="946080" cy="459360"/>
            </a:xfrm>
          </p:grpSpPr>
          <p:sp>
            <p:nvSpPr>
              <p:cNvPr id="99" name="椭圆 23"/>
              <p:cNvSpPr/>
              <p:nvPr/>
            </p:nvSpPr>
            <p:spPr>
              <a:xfrm>
                <a:off x="4057200" y="4778280"/>
                <a:ext cx="449280" cy="4593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矩形 24"/>
              <p:cNvSpPr/>
              <p:nvPr/>
            </p:nvSpPr>
            <p:spPr>
              <a:xfrm>
                <a:off x="4587480" y="4813200"/>
                <a:ext cx="415800" cy="4039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1" name="矩形 6"/>
          <p:cNvSpPr/>
          <p:nvPr/>
        </p:nvSpPr>
        <p:spPr>
          <a:xfrm>
            <a:off x="4116600" y="3649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4656960" y="362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8"/>
          <p:cNvSpPr/>
          <p:nvPr/>
        </p:nvSpPr>
        <p:spPr>
          <a:xfrm>
            <a:off x="3729960" y="421956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16"/>
          <p:cNvSpPr/>
          <p:nvPr/>
        </p:nvSpPr>
        <p:spPr>
          <a:xfrm>
            <a:off x="4264920" y="4233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18"/>
          <p:cNvSpPr/>
          <p:nvPr/>
        </p:nvSpPr>
        <p:spPr>
          <a:xfrm>
            <a:off x="4096800" y="4792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25"/>
          <p:cNvSpPr/>
          <p:nvPr/>
        </p:nvSpPr>
        <p:spPr>
          <a:xfrm>
            <a:off x="4635000" y="477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2"/>
          <p:cNvGrpSpPr/>
          <p:nvPr/>
        </p:nvGrpSpPr>
        <p:grpSpPr>
          <a:xfrm>
            <a:off x="1057320" y="1846440"/>
            <a:ext cx="7229520" cy="2288520"/>
            <a:chOff x="1057320" y="1846440"/>
            <a:chExt cx="7229520" cy="2288520"/>
          </a:xfrm>
        </p:grpSpPr>
        <p:sp>
          <p:nvSpPr>
            <p:cNvPr id="108" name="TextBox 36"/>
            <p:cNvSpPr/>
            <p:nvPr/>
          </p:nvSpPr>
          <p:spPr>
            <a:xfrm>
              <a:off x="1057320" y="1846440"/>
              <a:ext cx="72295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5680" indent="-355680">
                <a:lnSpc>
                  <a:spcPct val="15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254320"/>
                  <a:tab algn="l" pos="2705040"/>
                  <a:tab algn="l" pos="3156120"/>
                  <a:tab algn="l" pos="3606840"/>
                  <a:tab algn="l" pos="4057560"/>
                  <a:tab algn="l" pos="4508640"/>
                  <a:tab algn="l" pos="4959360"/>
                  <a:tab algn="l" pos="5410080"/>
                  <a:tab algn="l" pos="5861160"/>
                  <a:tab algn="l" pos="6311880"/>
                  <a:tab algn="l" pos="6762600"/>
                  <a:tab algn="l" pos="7213680"/>
                  <a:tab algn="l" pos="7664400"/>
                  <a:tab algn="l" pos="8115480"/>
                  <a:tab algn="l" pos="8566200"/>
                  <a:tab algn="l" pos="901692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2)432÷1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55680" indent="-355680">
                <a:lnSpc>
                  <a:spcPct val="15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254320"/>
                  <a:tab algn="l" pos="2705040"/>
                  <a:tab algn="l" pos="3156120"/>
                  <a:tab algn="l" pos="3606840"/>
                  <a:tab algn="l" pos="4057560"/>
                  <a:tab algn="l" pos="4508640"/>
                  <a:tab algn="l" pos="4959360"/>
                  <a:tab algn="l" pos="5410080"/>
                  <a:tab algn="l" pos="5861160"/>
                  <a:tab algn="l" pos="6311880"/>
                  <a:tab algn="l" pos="6762600"/>
                  <a:tab algn="l" pos="7213680"/>
                  <a:tab algn="l" pos="7664400"/>
                  <a:tab algn="l" pos="8115480"/>
                  <a:tab algn="l" pos="8566200"/>
                  <a:tab algn="l" pos="901692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432×3)÷(1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55680" indent="-355680">
                <a:lnSpc>
                  <a:spcPct val="15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254320"/>
                  <a:tab algn="l" pos="2705040"/>
                  <a:tab algn="l" pos="3156120"/>
                  <a:tab algn="l" pos="3606840"/>
                  <a:tab algn="l" pos="4057560"/>
                  <a:tab algn="l" pos="4508640"/>
                  <a:tab algn="l" pos="4959360"/>
                  <a:tab algn="l" pos="5410080"/>
                  <a:tab algn="l" pos="5861160"/>
                  <a:tab algn="l" pos="6311880"/>
                  <a:tab algn="l" pos="6762600"/>
                  <a:tab algn="l" pos="7213680"/>
                  <a:tab algn="l" pos="7664400"/>
                  <a:tab algn="l" pos="8115480"/>
                  <a:tab algn="l" pos="8566200"/>
                  <a:tab algn="l" pos="901692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②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43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÷(1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55680" indent="-355680">
                <a:lnSpc>
                  <a:spcPct val="150000"/>
                </a:lnSpc>
                <a:tabLst>
                  <a:tab algn="l" pos="0"/>
                  <a:tab algn="l" pos="450720"/>
                  <a:tab algn="l" pos="901800"/>
                  <a:tab algn="l" pos="1352520"/>
                  <a:tab algn="l" pos="1803240"/>
                  <a:tab algn="l" pos="2254320"/>
                  <a:tab algn="l" pos="2705040"/>
                  <a:tab algn="l" pos="3156120"/>
                  <a:tab algn="l" pos="3606840"/>
                  <a:tab algn="l" pos="4057560"/>
                  <a:tab algn="l" pos="4508640"/>
                  <a:tab algn="l" pos="4959360"/>
                  <a:tab algn="l" pos="5410080"/>
                  <a:tab algn="l" pos="5861160"/>
                  <a:tab algn="l" pos="6311880"/>
                  <a:tab algn="l" pos="6762600"/>
                  <a:tab algn="l" pos="7213680"/>
                  <a:tab algn="l" pos="7664400"/>
                  <a:tab algn="l" pos="8115480"/>
                  <a:tab algn="l" pos="8566200"/>
                  <a:tab algn="l" pos="901692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32÷(12÷4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9" name="组合 1"/>
            <p:cNvGrpSpPr/>
            <p:nvPr/>
          </p:nvGrpSpPr>
          <p:grpSpPr>
            <a:xfrm>
              <a:off x="3793320" y="2469960"/>
              <a:ext cx="970200" cy="459360"/>
              <a:chOff x="3793320" y="2469960"/>
              <a:chExt cx="970200" cy="459360"/>
            </a:xfrm>
          </p:grpSpPr>
          <p:sp>
            <p:nvSpPr>
              <p:cNvPr id="110" name="椭圆 5"/>
              <p:cNvSpPr/>
              <p:nvPr/>
            </p:nvSpPr>
            <p:spPr>
              <a:xfrm>
                <a:off x="3793320" y="2469960"/>
                <a:ext cx="448560" cy="4593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矩形 6"/>
              <p:cNvSpPr/>
              <p:nvPr/>
            </p:nvSpPr>
            <p:spPr>
              <a:xfrm>
                <a:off x="4348080" y="2504880"/>
                <a:ext cx="415440" cy="4039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2" name="组合 8"/>
            <p:cNvGrpSpPr/>
            <p:nvPr/>
          </p:nvGrpSpPr>
          <p:grpSpPr>
            <a:xfrm>
              <a:off x="2463120" y="3036240"/>
              <a:ext cx="970200" cy="459360"/>
              <a:chOff x="2463120" y="3036240"/>
              <a:chExt cx="970200" cy="459360"/>
            </a:xfrm>
          </p:grpSpPr>
          <p:sp>
            <p:nvSpPr>
              <p:cNvPr id="113" name="椭圆 9"/>
              <p:cNvSpPr/>
              <p:nvPr/>
            </p:nvSpPr>
            <p:spPr>
              <a:xfrm>
                <a:off x="2463120" y="3036240"/>
                <a:ext cx="449280" cy="4593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矩形 10"/>
              <p:cNvSpPr/>
              <p:nvPr/>
            </p:nvSpPr>
            <p:spPr>
              <a:xfrm>
                <a:off x="3017160" y="3070800"/>
                <a:ext cx="416160" cy="4039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5" name="组合 11"/>
            <p:cNvGrpSpPr/>
            <p:nvPr/>
          </p:nvGrpSpPr>
          <p:grpSpPr>
            <a:xfrm>
              <a:off x="4437720" y="3024360"/>
              <a:ext cx="970200" cy="459360"/>
              <a:chOff x="4437720" y="3024360"/>
              <a:chExt cx="970200" cy="459360"/>
            </a:xfrm>
          </p:grpSpPr>
          <p:sp>
            <p:nvSpPr>
              <p:cNvPr id="116" name="椭圆 12"/>
              <p:cNvSpPr/>
              <p:nvPr/>
            </p:nvSpPr>
            <p:spPr>
              <a:xfrm>
                <a:off x="4437720" y="3024360"/>
                <a:ext cx="449280" cy="4593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矩形 13"/>
              <p:cNvSpPr/>
              <p:nvPr/>
            </p:nvSpPr>
            <p:spPr>
              <a:xfrm>
                <a:off x="4991760" y="3059280"/>
                <a:ext cx="416160" cy="4039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8" name="组合 14"/>
            <p:cNvGrpSpPr/>
            <p:nvPr/>
          </p:nvGrpSpPr>
          <p:grpSpPr>
            <a:xfrm>
              <a:off x="4289040" y="3549960"/>
              <a:ext cx="970200" cy="459360"/>
              <a:chOff x="4289040" y="3549960"/>
              <a:chExt cx="970200" cy="459360"/>
            </a:xfrm>
          </p:grpSpPr>
          <p:sp>
            <p:nvSpPr>
              <p:cNvPr id="119" name="椭圆 15"/>
              <p:cNvSpPr/>
              <p:nvPr/>
            </p:nvSpPr>
            <p:spPr>
              <a:xfrm>
                <a:off x="4289040" y="3549960"/>
                <a:ext cx="449280" cy="4593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矩形 16"/>
              <p:cNvSpPr/>
              <p:nvPr/>
            </p:nvSpPr>
            <p:spPr>
              <a:xfrm>
                <a:off x="4843080" y="3584880"/>
                <a:ext cx="416160" cy="4039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21" name="矩形 3"/>
          <p:cNvSpPr/>
          <p:nvPr/>
        </p:nvSpPr>
        <p:spPr>
          <a:xfrm>
            <a:off x="3747600" y="2459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7"/>
          <p:cNvSpPr/>
          <p:nvPr/>
        </p:nvSpPr>
        <p:spPr>
          <a:xfrm>
            <a:off x="4291920" y="2478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7"/>
          <p:cNvSpPr/>
          <p:nvPr/>
        </p:nvSpPr>
        <p:spPr>
          <a:xfrm>
            <a:off x="2418120" y="3024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18"/>
          <p:cNvSpPr/>
          <p:nvPr/>
        </p:nvSpPr>
        <p:spPr>
          <a:xfrm>
            <a:off x="2969640" y="305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19"/>
          <p:cNvSpPr/>
          <p:nvPr/>
        </p:nvSpPr>
        <p:spPr>
          <a:xfrm>
            <a:off x="4391280" y="3019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20"/>
          <p:cNvSpPr/>
          <p:nvPr/>
        </p:nvSpPr>
        <p:spPr>
          <a:xfrm>
            <a:off x="4944240" y="30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21"/>
          <p:cNvSpPr/>
          <p:nvPr/>
        </p:nvSpPr>
        <p:spPr>
          <a:xfrm>
            <a:off x="6787440" y="3030480"/>
            <a:ext cx="83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案不唯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22"/>
          <p:cNvSpPr/>
          <p:nvPr/>
        </p:nvSpPr>
        <p:spPr>
          <a:xfrm>
            <a:off x="4242960" y="3548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23"/>
          <p:cNvSpPr/>
          <p:nvPr/>
        </p:nvSpPr>
        <p:spPr>
          <a:xfrm>
            <a:off x="4787280" y="3551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36"/>
          <p:cNvSpPr/>
          <p:nvPr/>
        </p:nvSpPr>
        <p:spPr>
          <a:xfrm>
            <a:off x="965160" y="1573200"/>
            <a:ext cx="722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填一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被除数和除数同时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个数相除，商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如果被除数和除数同时扩大到原来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倍，商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甲数除以乙数，商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如果甲数除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要使商不变，乙数应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1"/>
          <p:cNvSpPr/>
          <p:nvPr/>
        </p:nvSpPr>
        <p:spPr>
          <a:xfrm>
            <a:off x="5373360" y="2274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2"/>
          <p:cNvSpPr/>
          <p:nvPr/>
        </p:nvSpPr>
        <p:spPr>
          <a:xfrm>
            <a:off x="4497480" y="3346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7"/>
          <p:cNvSpPr/>
          <p:nvPr/>
        </p:nvSpPr>
        <p:spPr>
          <a:xfrm>
            <a:off x="4142880" y="444816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除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组合 2"/>
          <p:cNvGrpSpPr/>
          <p:nvPr/>
        </p:nvGrpSpPr>
        <p:grpSpPr>
          <a:xfrm>
            <a:off x="965160" y="2665440"/>
            <a:ext cx="7229520" cy="1191240"/>
            <a:chOff x="965160" y="2665440"/>
            <a:chExt cx="7229520" cy="1191240"/>
          </a:xfrm>
        </p:grpSpPr>
        <p:sp>
          <p:nvSpPr>
            <p:cNvPr id="135" name="TextBox 36"/>
            <p:cNvSpPr/>
            <p:nvPr/>
          </p:nvSpPr>
          <p:spPr>
            <a:xfrm>
              <a:off x="965160" y="2665440"/>
              <a:ext cx="7229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5680" indent="-3556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4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除数除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被除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商不变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55680" indent="-3556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5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如果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÷1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那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      ×      )÷(13×5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椭圆 3"/>
            <p:cNvSpPr/>
            <p:nvPr/>
          </p:nvSpPr>
          <p:spPr>
            <a:xfrm>
              <a:off x="2074680" y="3321000"/>
              <a:ext cx="449280" cy="458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椭圆 5"/>
            <p:cNvSpPr/>
            <p:nvPr/>
          </p:nvSpPr>
          <p:spPr>
            <a:xfrm>
              <a:off x="4830840" y="3340080"/>
              <a:ext cx="449280" cy="458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矩形 6"/>
            <p:cNvSpPr/>
            <p:nvPr/>
          </p:nvSpPr>
          <p:spPr>
            <a:xfrm>
              <a:off x="5583240" y="3340080"/>
              <a:ext cx="41580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矩形 7"/>
          <p:cNvSpPr/>
          <p:nvPr/>
        </p:nvSpPr>
        <p:spPr>
          <a:xfrm>
            <a:off x="4285800" y="28036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除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8"/>
          <p:cNvSpPr/>
          <p:nvPr/>
        </p:nvSpPr>
        <p:spPr>
          <a:xfrm>
            <a:off x="5623920" y="319104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36"/>
          <p:cNvSpPr/>
          <p:nvPr/>
        </p:nvSpPr>
        <p:spPr>
          <a:xfrm>
            <a:off x="965160" y="1276200"/>
            <a:ext cx="722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红星幼儿园上午给小朋友们买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千克草莓，用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。下午要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千克草莓，下午买草莓又要用去多少元钱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4"/>
          <p:cNvSpPr/>
          <p:nvPr/>
        </p:nvSpPr>
        <p:spPr>
          <a:xfrm>
            <a:off x="2192400" y="3173400"/>
            <a:ext cx="477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÷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×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0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下午买草莓又要用去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元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47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149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矩形 12" descr=""/>
          <p:cNvPicPr/>
          <p:nvPr/>
        </p:nvPicPr>
        <p:blipFill>
          <a:blip r:embed="rId5"/>
          <a:stretch/>
        </p:blipFill>
        <p:spPr>
          <a:xfrm>
            <a:off x="938160" y="1328760"/>
            <a:ext cx="7267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cp:keywords/>
  <dc:language>en-US</dc:language>
  <cp:lastModifiedBy>Administrator</cp:lastModifiedBy>
  <dcterms:modified xsi:type="dcterms:W3CDTF">2017-11-12T11:40:02Z</dcterms:modified>
  <cp:revision>46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